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2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592200" y="310500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я делопроизводства по обращениям гражд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Подготовка обращений к сдаче в архив включает в себя: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формление де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ведение экспертизы ценности документов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ставление опис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Законодательные акты, регламентирующие работу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Характеристика технологии работы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зовите основные задачи службы ДОУ по организации работы с обращениями гражд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Федеральный закон «О порядке рассмотрения обращений граждан РФ» от 02 мая 2006 № 59-ФЗ // Собрание законодательства РФ. – 2006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E0BC-3410-446C-A89D-16EF3C19915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C1BB-C8F5-4D42-809B-B1A77423DCE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бращение гражданина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правленные в государственный орган, орган местного самоуправления или должностному лицу письменные предложение, заявление или жалоба, а также устное обращение гражданина в государственный орган, орган местного самоу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878280" y="1311120"/>
            <a:ext cx="1606680" cy="58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Виды обращений граждан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544320"/>
            <a:ext cx="8229600" cy="63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длож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рекомендация гражданина по совершенствованию законов и иных нормативных правовых актов, деятельности государственных органов и органов местного самоуправления, развитию общественных отношений, улучшению социально-экономической и иных сфер деятельности государства и общ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явл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содействии в реализации его конституционных прав и свобод или конституционных прав и свобод других лиц, либо сообщение о нарушении законов и иных нормативных правовых актов, недостатках в работе государственных органов, органов местного самоуправления и должностных лиц, либо критика деятельности указанных органов и должностных ли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алоб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восстановлении или защите его нарушенных прав, свобод или законных интересов либо прав, свобод или законных интересов других лиц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одатайство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исьменное обращение гражданина с просьбой о признании за ним определенного статуса, прав, гарантий и льгот с предоставлением документов, их подтверждаю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лективные обращения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ращения двух или более граждан в письменном виде, содержащее частный интерес, либо обращение, принятое на митинге, собрании и подписанное организаторами и участниками собрания, имеющего общественный характ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тиции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коллективные обращения граждан в органы власти города о необходимости проведения общественных реформ или частичного изменения городского законодатель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бота с обращениями граждан и ее законодательное регулирование прошли эволюционный путь становления и развития  делопроизводств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681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период складывания русского централизованного государства. Вместе с созданием государственных учреждений появились письменные обращения в них частных л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 документы этого вида получили название «челобитная». Они поступали в приказы и приказные избы от служилых людей, крестья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– челобитные не изменили своего названия, но существенно изменилась форма их напис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02 г. просительские документы составлялись в виде прошений, жалоб, отзы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законодательное регулирование  после 1917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2720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волюция 1917 г. уничтожила такие документы, как прошение, рескрипт, донос. Появляются новые документы, такие, как декрет, заявление. Заявление в корне меняет смысл обращения, оно выражает право «заявлять», а не «покорнейше просить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сероссийского Чрезвычайного съезда Советов «О точном соблюдении законов» от 8 ноября 1918, провозгласившее право каждого гражданина обжаловать действия любого должностного лица, волокиту или иные ущемления их законных требован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мае 1919 г. Наркоматом государственного контроля было издано два постановления («О центральном Бюро жалоб и заявлений при НК РКИ и «О местных отделениях Центрального Бюро жалоб и заявлений»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рет СНК РСФСР «Об устранении волокиты» от 30 декабря 1919 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я ВЦИК СССР и РСФСР «О рассмотрении жалоб трудящихся и принятии по ним необходимых мер» от 13 апреля 1933 г., «Об упорядочении дела рассмотрения и разрешения жалоб» от 1 июля 1934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968 г. Указ высшего законодательного органа Президиума Верховного Совета СССР «О порядке рассмотрения предложений, заявлений и жалоб граждан». ( с изм. 04.03.1980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 октября 1981г. Постановление «О порядке ведения делопроизводства по предложениям, заявлениям и жалобам граждан в государственных органах, на предприятиях, в учреждениях и организациях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коны «О порядке обжалования в суд не правомерных действий должностных лиц, ущемляющих права граждан» от 30 июня 1987 г., а также «Об обжаловании в суд действий и решений, нарушающие права и свободы граждан» от 24 апреля 1993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З «О порядке рассмотрения обращений граждан Российской Федерации» от 02.05.2006 № 59-Ф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Технология работы с обращениями граждан требует организации: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3804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гражда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и первичной обработки письменных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авления обращений на рассмот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направлении обращения в другие учреж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длительном расследовании обращ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роля сроков исполнения документов и выполнением принятых по ним реш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-справочной работы по обраще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щения заявителя о вынесенных решениях с одновременным, в случае необходимости, направлением решений для исполнения в соответствующие орга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ировки в дела и текущего хранения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а поступивших обращ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вторным считается обращени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упившее от одного и того же лица по одному и тому же вопросу, если со времени подачи первого предложения (заявления, жалобы) истек установленный законодательством срок их рассмотрения или заявитель не был удовлетворен ответом, сделанным по первому обращ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роки исполнения обращений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новлен в качестве максимального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есячный срок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ешения жалоб, заявлений и предложений во всех орган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явления и жалобы, не требующие дополнительного изучения и проверки, разрешаются безотлагательно, но не позднее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15 дн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 дня поступ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ех случаях, когда для принятия решений по жалобе или заявлению необходимо проведение специальной проверки и истребования дополнительных материалов, разрешено в порядке исключения продлить срок подготовки ответа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е более чем на один меся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ообщив об этом лицу, подавшему заявление или жало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азрешения заявлений и жалоб военнослужащих и членов их семей были установлены более короткие срок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центральных органах власти и управления - до 15 д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местных органах власти, на предприятиях и в учреждениях - безотлагательно, но не позднее. 7 д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1:36:04Z</dcterms:modified>
  <cp:revision>137</cp:revision>
  <dc:subject/>
  <dc:title>Lecture Template </dc:title>
</cp:coreProperties>
</file>